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media/image11.jpeg" ContentType="image/jpeg"/>
  <Override PartName="/ppt/media/image12.pct" ContentType="image/x-pict"/>
  <Override PartName="/ppt/media/image1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54EC-A6DC-44DE-9AC7-CB3B0D408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4789-3DF4-4DB6-93A7-35BBB40F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3463-1E76-4516-9EA5-1F7E00277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2F9A-FEAC-409A-B192-0CED3AEB4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BA00-513E-4B42-B884-18BB4777B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E2DC-5100-43E6-AA2C-B4C729D9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7B94-9369-4BA8-8939-CF8DCF7E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8C42-9232-46EE-9CB9-948F8433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483E-F3BF-4E77-B879-BF7F3511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1CB7-8A88-402A-BFD8-A37671EA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0F1F-2FC6-4315-AD9F-276B4977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EBBD-76DD-4547-85F9-2195928F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BABA-7C34-492F-8BC2-BD110E1F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EF2B-2AA9-4536-909B-C871FAD1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934A-FF58-4124-9883-FC0D2D0E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68B5-503C-43B3-BA8B-D661689E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1820-6D12-4090-A76E-BA0B1CE4D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05B2-2E83-43DF-9B5F-07D8FF42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E490-1401-49A9-8A72-598ADD9A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60E6-638B-4181-AC6F-72495D74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7E8C-1633-4FDA-9E71-AD43AC35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60F4-2388-444B-BD3A-198ABF9A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B0B0-623B-4472-AE59-8DAD68F9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E5F2-B4A6-4B0C-A42A-C8B54DE7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be0e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be0e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be0e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99E0-9AC0-465A-AA77-4419C78F2D22}" type="slidenum">
              <a:rPr b="0" lang="en-US" sz="1400" spc="-1" strike="noStrike">
                <a:solidFill>
                  <a:srgbClr val="bbe0e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be0e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be0e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be0e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2A84-DD67-4A43-8E33-19366950841A}" type="slidenum">
              <a:rPr b="0" lang="en-US" sz="1400" spc="-1" strike="noStrike">
                <a:solidFill>
                  <a:srgbClr val="bbe0e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be0e3"/>
              </a:buClr>
              <a:buSzPct val="95000"/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be0e3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bbe0e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be0e3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bbe0e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bbe0e3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bbe0e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bbe0e3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8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action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Dealing &amp; Guiding</a:t>
            </a: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viewing Data &amp;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king Adjustm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chool having difficulty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04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Guide the teacher/team through questioning 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04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Use the support documents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04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If this is a regular problem, report to Spencer Register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chool constantly making adjustments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04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Do not interrupt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04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If unable to make a decision, make a summarizing statement of what has been said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04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Talk privately with facilitator and/or principal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acher wanting Accommod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Listen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how empathy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Explain that special education is not about accommodations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hare that upon review, many students are not doing any better with accommodations than without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acher not following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strict guidelin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ttempt to gain an understanding of why the district guidelines are not being followed.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If there is a reasonable concern, bring the concern to Spencer Register for discussion.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If there is not a reasonable concern, attempt to explain the district guidelines.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Talk with administrator of school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hare with Spencer Register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0204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Discuss options for working with the school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0204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Discuss whether a report needs to be made to a director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ministration and/or team is not supporting the district guidelin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38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ttempt to gain an understanding of why the district guidelines are not being followed.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If there is a reasonable concern, bring the concern to Spencer Register for discussion.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If there is not a reasonable concern, attempt to explain the district guidelines.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hare with Spencer Register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SzPct val="10204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Discuss options for working with the school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SzPct val="10204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Discuss whether a report needs to be made to a director</a:t>
            </a: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orking in Group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5800" y="1066680"/>
          <a:ext cx="7772400" cy="55692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Group One</a:t>
                      </a:r>
                      <a:endParaRPr b="0" lang="en-US" sz="28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Group Two</a:t>
                      </a:r>
                      <a:endParaRPr b="0" lang="en-US" sz="28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Group Three</a:t>
                      </a:r>
                      <a:endParaRPr b="0" lang="en-US" sz="28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Peter</a:t>
                      </a:r>
                      <a:endParaRPr b="0" lang="en-US" sz="28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Carrie</a:t>
                      </a:r>
                      <a:endParaRPr b="0" lang="en-US" sz="28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Donna</a:t>
                      </a:r>
                      <a:endParaRPr b="0" lang="en-US" sz="28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Suzanne</a:t>
                      </a:r>
                      <a:endParaRPr b="0" lang="en-US" sz="28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Natalie</a:t>
                      </a:r>
                      <a:endParaRPr b="0" lang="en-US" sz="28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Susan</a:t>
                      </a:r>
                      <a:endParaRPr b="0" lang="en-US" sz="28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Rob</a:t>
                      </a:r>
                      <a:endParaRPr b="0" lang="en-US" sz="28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Joe</a:t>
                      </a:r>
                      <a:endParaRPr b="0" lang="en-US" sz="28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Carlene</a:t>
                      </a:r>
                      <a:endParaRPr b="0" lang="en-US" sz="28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Group Four</a:t>
                      </a:r>
                      <a:endParaRPr b="0" lang="en-US" sz="28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Group Five</a:t>
                      </a:r>
                      <a:endParaRPr b="0" lang="en-US" sz="28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Cindy K.</a:t>
                      </a:r>
                      <a:endParaRPr b="0" lang="en-US" sz="28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Gary</a:t>
                      </a:r>
                      <a:endParaRPr b="0" lang="en-US" sz="28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Helen</a:t>
                      </a:r>
                      <a:endParaRPr b="0" lang="en-US" sz="28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Cindy W</a:t>
                      </a:r>
                      <a:endParaRPr b="0" lang="en-US" sz="28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Spencer</a:t>
                      </a:r>
                      <a:endParaRPr b="0" lang="en-US" sz="28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Pat</a:t>
                      </a:r>
                      <a:endParaRPr b="0" lang="en-US" sz="28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8682120" y="2235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rainstorm Barrier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In your small group discuss and list as many barriers as you can that may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revent a teacher from volunteering for assistance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revent a successful collaborative problem solving process (team related)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ontribute to a teacher’s and/or school’s resistance or failure to carry out a recommendation or intervention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448000" y="2057400"/>
            <a:ext cx="45529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fficult, Awkward, and Annoying Team Situation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What are they?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List factors which get in the way of the team’s functioning and effectiveness.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448000" y="2057400"/>
            <a:ext cx="45529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fficult Situation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List situations which you may find difficult to address and would like to discuss.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xample of a Good Meet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It was March before this meeting took place.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o remember to be patient with your school.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"/>
              </a:rPr>
              <a:t>Discuss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448000" y="2057400"/>
            <a:ext cx="45529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ave Fun!!!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27280" y="1981080"/>
            <a:ext cx="5688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is will eventually go away!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115 LEAs have gone through training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General Education Directors and Special Education Directors have representation on a state steering committee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The state now has a work team that is going to help braid initiatives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BM and progress monitoring will be part of the formative assessment training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s is not manageable!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Listen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Show empathy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sk questions to find out more about the details of what is not manageable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ttempt to guide the teacher if possible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If there is too much frustration, help teacher/team to back up and take things more slowly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sk for assistance from other Support Members if there is a particular area that the teacher needs help with.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is school is doing it this way and we are doing it this way!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58840"/>
            <a:ext cx="77724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This is a learning process for us all.  Although there are state and district guidelines that everyone must follow, it still may look different at the various schools.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Our district is a very diverse district, so it may not be reasonable for everyone to be alike.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Each school will need to determine how best to use resources, etc.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This is still a learning process for everyone.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acher expresses frustration because she feels she has already done everything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601720"/>
            <a:ext cx="7772400" cy="34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Listen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how empathy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Explain why what is needed should be done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Primarily Listen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y do we use CBMs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2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e0e3"/>
                </a:solidFill>
                <a:latin typeface="Arial"/>
              </a:rPr>
              <a:t>Assessment tools derived from the curriculum, used in conjunction with a problem-solving model.</a:t>
            </a:r>
            <a:endParaRPr b="0" lang="en-US" sz="25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e0e3"/>
                </a:solidFill>
                <a:latin typeface="Arial"/>
              </a:rPr>
              <a:t>Possess the necessary specificity.</a:t>
            </a:r>
            <a:endParaRPr b="0" lang="en-US" sz="25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e0e3"/>
                </a:solidFill>
                <a:latin typeface="Arial"/>
              </a:rPr>
              <a:t>Administered in a short period of time.</a:t>
            </a:r>
            <a:endParaRPr b="0" lang="en-US" sz="25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e0e3"/>
                </a:solidFill>
                <a:latin typeface="Arial"/>
              </a:rPr>
              <a:t>Sensitive to the small increases in the student’s academic skills.</a:t>
            </a:r>
            <a:endParaRPr b="0" lang="en-US" sz="25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e0e3"/>
                </a:solidFill>
                <a:latin typeface="Arial"/>
              </a:rPr>
              <a:t>Allows for peer referencing.</a:t>
            </a:r>
            <a:endParaRPr b="0" lang="en-US" sz="25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e0e3"/>
                </a:solidFill>
                <a:latin typeface="Arial"/>
              </a:rPr>
              <a:t>Used to progress monitor</a:t>
            </a:r>
            <a:endParaRPr b="0" lang="en-US" sz="25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e0e3"/>
                </a:solidFill>
                <a:latin typeface="Arial"/>
              </a:rPr>
              <a:t>Bottom line:  It is recommended by the state.</a:t>
            </a:r>
            <a:endParaRPr b="0" lang="en-US" sz="25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y are CBMs scored the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ay they are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BMs are scored in a manner that is sensitive to improvements of students’ achievement over time.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3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am not looking at the Dat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Ask about the data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Guide the team through questioning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lay dumb (pretend you need to be able to explain if someone ask)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sk “Help me understand the decision?”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18:59:06Z</dcterms:created>
  <dc:creator>Chatham County Schools</dc:creator>
  <dc:description/>
  <dc:language>en-US</dc:language>
  <cp:lastModifiedBy>Chatham County Schools</cp:lastModifiedBy>
  <dcterms:modified xsi:type="dcterms:W3CDTF">2010-06-14T18:38:19Z</dcterms:modified>
  <cp:revision>7</cp:revision>
  <dc:subject/>
  <dc:title>Reactions</dc:title>
</cp:coreProperties>
</file>